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06E-2C8F-4B78-9B00-F1CF8BFF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D32-7700-4593-AC70-EC7F00A9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B46-CBF0-4598-AD7C-C61D223C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D05-0A26-4024-AF2E-301B45FB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5B6-F8B2-4915-8B32-4E919C8D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BC5-4C77-4ADB-8B05-1A288505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EAF-DB1E-4F92-9818-AAADD3D6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2EB-915A-4851-929B-C10CA3E1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C32-1312-475C-B2CC-BB4A163C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8C5-A4D5-4753-BFB1-429DAE38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901-2BE2-4364-888D-78931180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CE3-C96E-4491-9BE6-638BCE0F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2712-A481-4C02-B84B-9872695804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WordArt 14"/>
          <p:cNvSpPr txBox="1"/>
          <p:nvPr/>
        </p:nvSpPr>
        <p:spPr>
          <a:xfrm>
            <a:off x="2987640" y="458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484360" y="189000"/>
            <a:ext cx="37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ивая Лорен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увидеть, насколько реальное распределение доходов страны между семьями отличается от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 rot="18808800">
            <a:off x="1463760" y="37998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V="1">
            <a:off x="4467240" y="2744640"/>
            <a:ext cx="620640" cy="119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1978200" y="2060640"/>
            <a:ext cx="0" cy="3765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8200" y="5826240"/>
            <a:ext cx="37335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1800360" y="2744640"/>
            <a:ext cx="353520" cy="598320"/>
            <a:chOff x="1800360" y="2744640"/>
            <a:chExt cx="353520" cy="598320"/>
          </a:xfrm>
        </p:grpSpPr>
        <p:sp>
          <p:nvSpPr>
            <p:cNvPr id="153" name="Line 9"/>
            <p:cNvSpPr/>
            <p:nvPr/>
          </p:nvSpPr>
          <p:spPr>
            <a:xfrm flipV="1">
              <a:off x="1977840" y="274464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800360" y="33429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00360" y="2744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1978200" y="5654520"/>
            <a:ext cx="621720" cy="341280"/>
            <a:chOff x="1978200" y="5654520"/>
            <a:chExt cx="621720" cy="341280"/>
          </a:xfrm>
        </p:grpSpPr>
        <p:sp>
          <p:nvSpPr>
            <p:cNvPr id="157" name="Line 14"/>
            <p:cNvSpPr/>
            <p:nvPr/>
          </p:nvSpPr>
          <p:spPr>
            <a:xfrm>
              <a:off x="1978200" y="5825880"/>
              <a:ext cx="6217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999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600280" y="5654520"/>
            <a:ext cx="620280" cy="341280"/>
            <a:chOff x="2600280" y="5654520"/>
            <a:chExt cx="620280" cy="341280"/>
          </a:xfrm>
        </p:grpSpPr>
        <p:sp>
          <p:nvSpPr>
            <p:cNvPr id="160" name="Line 19"/>
            <p:cNvSpPr/>
            <p:nvPr/>
          </p:nvSpPr>
          <p:spPr>
            <a:xfrm>
              <a:off x="260028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60028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32205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3222720" y="5654520"/>
            <a:ext cx="620280" cy="341280"/>
            <a:chOff x="3222720" y="5654520"/>
            <a:chExt cx="620280" cy="341280"/>
          </a:xfrm>
        </p:grpSpPr>
        <p:sp>
          <p:nvSpPr>
            <p:cNvPr id="164" name="Line 23"/>
            <p:cNvSpPr/>
            <p:nvPr/>
          </p:nvSpPr>
          <p:spPr>
            <a:xfrm>
              <a:off x="322272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32227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84300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3843360" y="5654520"/>
            <a:ext cx="622080" cy="341280"/>
            <a:chOff x="3843360" y="5654520"/>
            <a:chExt cx="622080" cy="341280"/>
          </a:xfrm>
        </p:grpSpPr>
        <p:sp>
          <p:nvSpPr>
            <p:cNvPr id="168" name="Line 27"/>
            <p:cNvSpPr/>
            <p:nvPr/>
          </p:nvSpPr>
          <p:spPr>
            <a:xfrm>
              <a:off x="3843360" y="5825880"/>
              <a:ext cx="622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38433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44654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4467240" y="5654520"/>
            <a:ext cx="620280" cy="341280"/>
            <a:chOff x="4467240" y="5654520"/>
            <a:chExt cx="620280" cy="341280"/>
          </a:xfrm>
        </p:grpSpPr>
        <p:sp>
          <p:nvSpPr>
            <p:cNvPr id="172" name="Line 31"/>
            <p:cNvSpPr/>
            <p:nvPr/>
          </p:nvSpPr>
          <p:spPr>
            <a:xfrm>
              <a:off x="446724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44672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50875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1800360" y="5141880"/>
            <a:ext cx="353520" cy="598320"/>
            <a:chOff x="1800360" y="5141880"/>
            <a:chExt cx="353520" cy="598320"/>
          </a:xfrm>
        </p:grpSpPr>
        <p:sp>
          <p:nvSpPr>
            <p:cNvPr id="176" name="Line 35"/>
            <p:cNvSpPr/>
            <p:nvPr/>
          </p:nvSpPr>
          <p:spPr>
            <a:xfrm flipV="1">
              <a:off x="1978560" y="514188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800360" y="51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1800360" y="4541760"/>
            <a:ext cx="353520" cy="598320"/>
            <a:chOff x="1800360" y="4541760"/>
            <a:chExt cx="353520" cy="598320"/>
          </a:xfrm>
        </p:grpSpPr>
        <p:sp>
          <p:nvSpPr>
            <p:cNvPr id="179" name="Line 40"/>
            <p:cNvSpPr/>
            <p:nvPr/>
          </p:nvSpPr>
          <p:spPr>
            <a:xfrm flipV="1">
              <a:off x="1977840" y="454176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1"/>
            <p:cNvSpPr/>
            <p:nvPr/>
          </p:nvSpPr>
          <p:spPr>
            <a:xfrm>
              <a:off x="1800360" y="51400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2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3"/>
          <p:cNvGrpSpPr/>
          <p:nvPr/>
        </p:nvGrpSpPr>
        <p:grpSpPr>
          <a:xfrm>
            <a:off x="1800360" y="3943800"/>
            <a:ext cx="353520" cy="597960"/>
            <a:chOff x="1800360" y="3943800"/>
            <a:chExt cx="353520" cy="597960"/>
          </a:xfrm>
        </p:grpSpPr>
        <p:sp>
          <p:nvSpPr>
            <p:cNvPr id="183" name="Line 44"/>
            <p:cNvSpPr/>
            <p:nvPr/>
          </p:nvSpPr>
          <p:spPr>
            <a:xfrm flipV="1">
              <a:off x="1977840" y="394380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1800360" y="394380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1800360" y="3343680"/>
            <a:ext cx="353520" cy="597960"/>
            <a:chOff x="1800360" y="3343680"/>
            <a:chExt cx="353520" cy="597960"/>
          </a:xfrm>
        </p:grpSpPr>
        <p:sp>
          <p:nvSpPr>
            <p:cNvPr id="187" name="Line 48"/>
            <p:cNvSpPr/>
            <p:nvPr/>
          </p:nvSpPr>
          <p:spPr>
            <a:xfrm flipV="1">
              <a:off x="1977840" y="334368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>
              <a:off x="1800360" y="3941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0"/>
            <p:cNvSpPr/>
            <p:nvPr/>
          </p:nvSpPr>
          <p:spPr>
            <a:xfrm>
              <a:off x="1800360" y="33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51"/>
          <p:cNvSpPr/>
          <p:nvPr/>
        </p:nvSpPr>
        <p:spPr>
          <a:xfrm>
            <a:off x="2066760" y="2744640"/>
            <a:ext cx="302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 flipV="1">
            <a:off x="5087880" y="2744280"/>
            <a:ext cx="0" cy="29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 flipV="1">
            <a:off x="1978200" y="2744640"/>
            <a:ext cx="3109680" cy="308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4"/>
          <p:cNvSpPr/>
          <p:nvPr/>
        </p:nvSpPr>
        <p:spPr>
          <a:xfrm rot="16200000">
            <a:off x="-1004760" y="362124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1908000" y="630864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2987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340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3564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211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0"/>
          <p:cNvSpPr/>
          <p:nvPr/>
        </p:nvSpPr>
        <p:spPr>
          <a:xfrm>
            <a:off x="471636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1"/>
          <p:cNvSpPr/>
          <p:nvPr/>
        </p:nvSpPr>
        <p:spPr>
          <a:xfrm>
            <a:off x="1355760" y="4884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2"/>
          <p:cNvSpPr/>
          <p:nvPr/>
        </p:nvSpPr>
        <p:spPr>
          <a:xfrm>
            <a:off x="1355760" y="428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1355760" y="3687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1355760" y="308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1266840" y="2489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5445000" y="539892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978200" y="2144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066760" y="51418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2066760" y="45417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2154240" y="394344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"/>
          <p:cNvSpPr/>
          <p:nvPr/>
        </p:nvSpPr>
        <p:spPr>
          <a:xfrm>
            <a:off x="2154240" y="3343320"/>
            <a:ext cx="222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2"/>
          <p:cNvSpPr/>
          <p:nvPr/>
        </p:nvSpPr>
        <p:spPr>
          <a:xfrm flipV="1">
            <a:off x="2600280" y="514188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3"/>
          <p:cNvSpPr/>
          <p:nvPr/>
        </p:nvSpPr>
        <p:spPr>
          <a:xfrm flipV="1">
            <a:off x="3222720" y="46292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 flipV="1">
            <a:off x="3843360" y="3943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467240" y="343044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6" descr="image15645593"/>
          <p:cNvPicPr/>
          <p:nvPr/>
        </p:nvPicPr>
        <p:blipFill>
          <a:blip r:embed="rId3"/>
          <a:stretch/>
        </p:blipFill>
        <p:spPr>
          <a:xfrm>
            <a:off x="5000760" y="2658960"/>
            <a:ext cx="222120" cy="2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7" descr="image15645593"/>
          <p:cNvPicPr/>
          <p:nvPr/>
        </p:nvPicPr>
        <p:blipFill>
          <a:blip r:embed="rId4"/>
          <a:stretch/>
        </p:blipFill>
        <p:spPr>
          <a:xfrm>
            <a:off x="251136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image15645593"/>
          <p:cNvPicPr/>
          <p:nvPr/>
        </p:nvPicPr>
        <p:blipFill>
          <a:blip r:embed="rId5"/>
          <a:stretch/>
        </p:blipFill>
        <p:spPr>
          <a:xfrm>
            <a:off x="3132000" y="445608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image15645593"/>
          <p:cNvPicPr/>
          <p:nvPr/>
        </p:nvPicPr>
        <p:blipFill>
          <a:blip r:embed="rId6"/>
          <a:stretch/>
        </p:blipFill>
        <p:spPr>
          <a:xfrm>
            <a:off x="3755880" y="385596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image15645593"/>
          <p:cNvPicPr/>
          <p:nvPr/>
        </p:nvPicPr>
        <p:blipFill>
          <a:blip r:embed="rId7"/>
          <a:stretch/>
        </p:blipFill>
        <p:spPr>
          <a:xfrm>
            <a:off x="4376880" y="3259080"/>
            <a:ext cx="223560" cy="203400"/>
          </a:xfrm>
          <a:prstGeom prst="rect">
            <a:avLst/>
          </a:prstGeom>
          <a:ln w="0">
            <a:noFill/>
          </a:ln>
        </p:spPr>
      </p:pic>
      <p:sp>
        <p:nvSpPr>
          <p:cNvPr id="220" name="Line 83"/>
          <p:cNvSpPr/>
          <p:nvPr/>
        </p:nvSpPr>
        <p:spPr>
          <a:xfrm flipV="1">
            <a:off x="1978200" y="5482800"/>
            <a:ext cx="622080" cy="34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V="1">
            <a:off x="2600280" y="5141880"/>
            <a:ext cx="622440" cy="34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5"/>
          <p:cNvSpPr/>
          <p:nvPr/>
        </p:nvSpPr>
        <p:spPr>
          <a:xfrm flipV="1">
            <a:off x="3222720" y="4629240"/>
            <a:ext cx="620640" cy="51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6"/>
          <p:cNvSpPr/>
          <p:nvPr/>
        </p:nvSpPr>
        <p:spPr>
          <a:xfrm flipV="1">
            <a:off x="3843360" y="3943080"/>
            <a:ext cx="62388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8" descr="image15645593"/>
          <p:cNvPicPr/>
          <p:nvPr/>
        </p:nvPicPr>
        <p:blipFill>
          <a:blip r:embed="rId8"/>
          <a:stretch/>
        </p:blipFill>
        <p:spPr>
          <a:xfrm>
            <a:off x="2511360" y="539892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9" descr="image15645593"/>
          <p:cNvPicPr/>
          <p:nvPr/>
        </p:nvPicPr>
        <p:blipFill>
          <a:blip r:embed="rId9"/>
          <a:stretch/>
        </p:blipFill>
        <p:spPr>
          <a:xfrm>
            <a:off x="313200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0" descr="image15645593"/>
          <p:cNvPicPr/>
          <p:nvPr/>
        </p:nvPicPr>
        <p:blipFill>
          <a:blip r:embed="rId10"/>
          <a:stretch/>
        </p:blipFill>
        <p:spPr>
          <a:xfrm>
            <a:off x="3755880" y="454176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1" descr="image15645593"/>
          <p:cNvPicPr/>
          <p:nvPr/>
        </p:nvPicPr>
        <p:blipFill>
          <a:blip r:embed="rId11"/>
          <a:stretch/>
        </p:blipFill>
        <p:spPr>
          <a:xfrm>
            <a:off x="4376880" y="3855960"/>
            <a:ext cx="223560" cy="20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3"/>
          <p:cNvSpPr/>
          <p:nvPr/>
        </p:nvSpPr>
        <p:spPr>
          <a:xfrm>
            <a:off x="4932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ая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4"/>
          <p:cNvSpPr/>
          <p:nvPr/>
        </p:nvSpPr>
        <p:spPr>
          <a:xfrm flipH="1" flipV="1">
            <a:off x="4211640" y="4220640"/>
            <a:ext cx="79200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5"/>
          <p:cNvSpPr/>
          <p:nvPr/>
        </p:nvSpPr>
        <p:spPr>
          <a:xfrm>
            <a:off x="5364000" y="2133720"/>
            <a:ext cx="37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Чем ближе кривая Лоренца к прямой абсолютного равенства, тем справедливее распределение доходов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24000" y="6093000"/>
            <a:ext cx="4824360" cy="50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5280" y="11970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ивая Лоренца может быть использована для того, чтобы измер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зменение ставок нал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зменение уровня заработной пл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менение цен факторов производ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ичего не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95280" y="3141720"/>
            <a:ext cx="67690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9144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Если кривая Лоренца представляет собой луч с углом наклона в 45</a:t>
            </a:r>
            <a:r>
              <a:rPr b="1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сравниваемые переменные в каждой точке кривой буд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меть одинаков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меть отрицательн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меть положительное и отрицательно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меть противополож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5084640"/>
            <a:ext cx="7561080" cy="649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197000"/>
            <a:ext cx="8497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Чем дальше расположена кривая Лоренца от прямой абсолютного равенства, тем больше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авенства доходов в обществ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ходства между доходами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опоставимости доходов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еравенства доходов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: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ифференциация доход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таблицы постройте кривую Лоренца для России 1995 года и 1991 года. Какой вывод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28640"/>
          <a:ext cx="8569080" cy="436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792000"/>
                <a:gridCol w="936720"/>
                <a:gridCol w="935280"/>
                <a:gridCol w="903240"/>
                <a:gridCol w="753840"/>
              </a:tblGrid>
              <a:tr h="50796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(в совокуп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 gridSpan="7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 20-процентным группам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 с наимен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с наибол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233"/>
          <p:cNvSpPr/>
          <p:nvPr/>
        </p:nvSpPr>
        <p:spPr>
          <a:xfrm>
            <a:off x="61128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69"/>
          <p:cNvSpPr/>
          <p:nvPr/>
        </p:nvSpPr>
        <p:spPr>
          <a:xfrm flipV="1">
            <a:off x="5435640" y="765000"/>
            <a:ext cx="936720" cy="2159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8"/>
          <p:cNvSpPr/>
          <p:nvPr/>
        </p:nvSpPr>
        <p:spPr>
          <a:xfrm flipV="1">
            <a:off x="4356000" y="2924280"/>
            <a:ext cx="1079640" cy="100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3348000" y="3933720"/>
            <a:ext cx="1008000" cy="93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2340000" y="4868640"/>
            <a:ext cx="1008000" cy="43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V="1">
            <a:off x="1332000" y="5300280"/>
            <a:ext cx="1008000" cy="289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4356000" y="2421000"/>
            <a:ext cx="107964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 flipV="1">
            <a:off x="5435640" y="765000"/>
            <a:ext cx="93672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1332000" y="530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5435640" y="2421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340000" y="5157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1547640" y="765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37236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rId1"/>
          </p:cNvPr>
          <p:cNvSpPr/>
          <p:nvPr/>
        </p:nvSpPr>
        <p:spPr>
          <a:xfrm>
            <a:off x="8101080" y="5661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10800" y="5304"/>
                </a:moveTo>
                <a:lnTo>
                  <a:pt x="13376" y="7915"/>
                </a:ln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lnTo>
                  <a:pt x="17763" y="12267"/>
                </a:lnTo>
                <a:lnTo>
                  <a:pt x="16109" y="12267"/>
                </a:lnTo>
                <a:lnTo>
                  <a:pt x="16109" y="19456"/>
                </a:lnTo>
                <a:lnTo>
                  <a:pt x="5491" y="19456"/>
                </a:lnTo>
                <a:lnTo>
                  <a:pt x="5491" y="12267"/>
                </a:lnTo>
                <a:lnTo>
                  <a:pt x="3837" y="12267"/>
                </a:lnTo>
                <a:close/>
              </a:path>
              <a:path fill="darkenLess" w="21600" h="24534">
                <a:moveTo>
                  <a:pt x="13376" y="7915"/>
                </a:move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close/>
              </a:path>
              <a:path fill="darkenLess" w="21600" h="24534">
                <a:moveTo>
                  <a:pt x="9877" y="15766"/>
                </a:moveTo>
                <a:lnTo>
                  <a:pt x="11723" y="15766"/>
                </a:lnTo>
                <a:lnTo>
                  <a:pt x="11723" y="19456"/>
                </a:lnTo>
                <a:lnTo>
                  <a:pt x="16109" y="19456"/>
                </a:lnTo>
                <a:lnTo>
                  <a:pt x="16109" y="12267"/>
                </a:lnTo>
                <a:lnTo>
                  <a:pt x="5491" y="12267"/>
                </a:lnTo>
                <a:lnTo>
                  <a:pt x="5491" y="19456"/>
                </a:lnTo>
                <a:lnTo>
                  <a:pt x="9877" y="1945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1332000" y="260280"/>
            <a:ext cx="0" cy="5329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32000" y="5589720"/>
            <a:ext cx="61927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1332000" y="765000"/>
            <a:ext cx="5040360" cy="482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348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543564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637236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187280" y="458136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187280" y="3645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87280" y="2637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1187280" y="170028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116000" y="76500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124000" y="5734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05928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14036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521964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084720" y="5734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877080" y="50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39640" y="54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 rot="16200000">
            <a:off x="-1412280" y="282528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97164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 flipV="1">
            <a:off x="435600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75564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755640" y="436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75564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755640" y="148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1332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1332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1332000" y="393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133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1332000" y="3500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1332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1332000" y="242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0" descr="image9060828"/>
          <p:cNvPicPr/>
          <p:nvPr/>
        </p:nvPicPr>
        <p:blipFill>
          <a:blip r:embed="rId2"/>
          <a:stretch/>
        </p:blipFill>
        <p:spPr>
          <a:xfrm>
            <a:off x="2268360" y="522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2" descr="image9060828"/>
          <p:cNvPicPr/>
          <p:nvPr/>
        </p:nvPicPr>
        <p:blipFill>
          <a:blip r:embed="rId3"/>
          <a:stretch/>
        </p:blipFill>
        <p:spPr>
          <a:xfrm>
            <a:off x="3276720" y="47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4" descr="image9060828"/>
          <p:cNvPicPr/>
          <p:nvPr/>
        </p:nvPicPr>
        <p:blipFill>
          <a:blip r:embed="rId4"/>
          <a:stretch/>
        </p:blipFill>
        <p:spPr>
          <a:xfrm>
            <a:off x="4284720" y="3860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image9060828"/>
          <p:cNvPicPr/>
          <p:nvPr/>
        </p:nvPicPr>
        <p:blipFill>
          <a:blip r:embed="rId5"/>
          <a:stretch/>
        </p:blipFill>
        <p:spPr>
          <a:xfrm>
            <a:off x="5364000" y="2852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image9060828"/>
          <p:cNvPicPr/>
          <p:nvPr/>
        </p:nvPicPr>
        <p:blipFill>
          <a:blip r:embed="rId6"/>
          <a:stretch/>
        </p:blipFill>
        <p:spPr>
          <a:xfrm>
            <a:off x="5364000" y="234936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299" name="Line 58"/>
          <p:cNvSpPr/>
          <p:nvPr/>
        </p:nvSpPr>
        <p:spPr>
          <a:xfrm flipV="1">
            <a:off x="1332000" y="5157720"/>
            <a:ext cx="936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9"/>
          <p:cNvSpPr/>
          <p:nvPr/>
        </p:nvSpPr>
        <p:spPr>
          <a:xfrm flipV="1">
            <a:off x="2340000" y="4220640"/>
            <a:ext cx="100800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1" descr="image9060828"/>
          <p:cNvPicPr/>
          <p:nvPr/>
        </p:nvPicPr>
        <p:blipFill>
          <a:blip r:embed="rId7"/>
          <a:stretch/>
        </p:blipFill>
        <p:spPr>
          <a:xfrm>
            <a:off x="2268360" y="508464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302" name="Line 61"/>
          <p:cNvSpPr/>
          <p:nvPr/>
        </p:nvSpPr>
        <p:spPr>
          <a:xfrm flipV="1">
            <a:off x="3348000" y="3500280"/>
            <a:ext cx="936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3" descr="image9060828"/>
          <p:cNvPicPr/>
          <p:nvPr/>
        </p:nvPicPr>
        <p:blipFill>
          <a:blip r:embed="rId8"/>
          <a:stretch/>
        </p:blipFill>
        <p:spPr>
          <a:xfrm>
            <a:off x="3276720" y="4149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4" descr="image9060828"/>
          <p:cNvPicPr/>
          <p:nvPr/>
        </p:nvPicPr>
        <p:blipFill>
          <a:blip r:embed="rId9"/>
          <a:stretch/>
        </p:blipFill>
        <p:spPr>
          <a:xfrm>
            <a:off x="6227640" y="692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5" descr="image9060828"/>
          <p:cNvPicPr/>
          <p:nvPr/>
        </p:nvPicPr>
        <p:blipFill>
          <a:blip r:embed="rId10"/>
          <a:stretch/>
        </p:blipFill>
        <p:spPr>
          <a:xfrm>
            <a:off x="4284720" y="342900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0"/>
          <p:cNvSpPr/>
          <p:nvPr/>
        </p:nvSpPr>
        <p:spPr>
          <a:xfrm>
            <a:off x="900000" y="5157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900000" y="4941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826920" y="465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755640" y="4005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4"/>
          <p:cNvSpPr/>
          <p:nvPr/>
        </p:nvSpPr>
        <p:spPr>
          <a:xfrm>
            <a:off x="75564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5"/>
          <p:cNvSpPr/>
          <p:nvPr/>
        </p:nvSpPr>
        <p:spPr>
          <a:xfrm>
            <a:off x="82692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826920" y="2781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3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755640" y="2205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4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8"/>
          <p:cNvSpPr/>
          <p:nvPr/>
        </p:nvSpPr>
        <p:spPr>
          <a:xfrm rot="19063200">
            <a:off x="1764000" y="2491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 rot="19035600">
            <a:off x="4141080" y="249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 rot="19035600">
            <a:off x="4428360" y="278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633564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ые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2"/>
          <p:cNvSpPr/>
          <p:nvPr/>
        </p:nvSpPr>
        <p:spPr>
          <a:xfrm flipH="1" flipV="1">
            <a:off x="5651640" y="2060640"/>
            <a:ext cx="720720" cy="936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3"/>
          <p:cNvSpPr/>
          <p:nvPr/>
        </p:nvSpPr>
        <p:spPr>
          <a:xfrm flipH="1" flipV="1">
            <a:off x="5579640" y="2636640"/>
            <a:ext cx="79236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50920" y="260280"/>
            <a:ext cx="432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1197000"/>
            <a:ext cx="849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идевятом царстве проживают только 5 жителей: Иванушка-дурачок, Василиса Премудрая, Баба Яга, Кощей Бессмертный и Андрей-ст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ходы между ними распреде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Иванушка-дурачок – получает 50 монет в меся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ндрей-стрелок – 7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Баба Яга – 12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асилиса Премудрая – 250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Кощей Бессмертный – 500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кривую Лоренца для этого ц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50920" y="3789360"/>
            <a:ext cx="27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ь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6720" y="371628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причины, порождающие неравенство в доходах граждан, и способы измерения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33336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онят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00360" y="26028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еравенство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богат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бсолютное равен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ривая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50920" y="5300640"/>
            <a:ext cx="482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19640" y="522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,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eco137rf5pz2go"/>
          <p:cNvPicPr/>
          <p:nvPr/>
        </p:nvPicPr>
        <p:blipFill>
          <a:blip r:embed="rId1"/>
          <a:stretch/>
        </p:blipFill>
        <p:spPr>
          <a:xfrm>
            <a:off x="1763640" y="3716280"/>
            <a:ext cx="5829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050920" y="189000"/>
            <a:ext cx="554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чины неравен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1125360"/>
            <a:ext cx="460836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6000" y="220500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19280" y="328464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риминация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40000" y="4365720"/>
            <a:ext cx="345744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а и не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59280" y="5516640"/>
            <a:ext cx="453528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shar7"/>
          <p:cNvPicPr/>
          <p:nvPr/>
        </p:nvPicPr>
        <p:blipFill>
          <a:blip r:embed="rId1"/>
          <a:stretch/>
        </p:blipFill>
        <p:spPr>
          <a:xfrm>
            <a:off x="0" y="105264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har7"/>
          <p:cNvPicPr/>
          <p:nvPr/>
        </p:nvPicPr>
        <p:blipFill>
          <a:blip r:embed="rId2"/>
          <a:stretch/>
        </p:blipFill>
        <p:spPr>
          <a:xfrm>
            <a:off x="324000" y="2133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har7"/>
          <p:cNvPicPr/>
          <p:nvPr/>
        </p:nvPicPr>
        <p:blipFill>
          <a:blip r:embed="rId3"/>
          <a:stretch/>
        </p:blipFill>
        <p:spPr>
          <a:xfrm>
            <a:off x="826920" y="3284640"/>
            <a:ext cx="5749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har7"/>
          <p:cNvPicPr/>
          <p:nvPr/>
        </p:nvPicPr>
        <p:blipFill>
          <a:blip r:embed="rId4"/>
          <a:stretch/>
        </p:blipFill>
        <p:spPr>
          <a:xfrm>
            <a:off x="1476360" y="4365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har7"/>
          <p:cNvPicPr/>
          <p:nvPr/>
        </p:nvPicPr>
        <p:blipFill>
          <a:blip r:embed="rId5"/>
          <a:stretch/>
        </p:blipFill>
        <p:spPr>
          <a:xfrm>
            <a:off x="2268360" y="544500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роблемы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Образование и дох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83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 вами таблица доходов лиц различных профессий в королевстве Швеция. Какой вывод можно сделать? Можно ли сказать, что в России доход зависит от образ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989000"/>
          <a:ext cx="8713800" cy="4383360"/>
        </p:xfrm>
        <a:graphic>
          <a:graphicData uri="http://schemas.openxmlformats.org/drawingml/2006/table">
            <a:tbl>
              <a:tblPr/>
              <a:tblGrid>
                <a:gridCol w="4446360"/>
                <a:gridCol w="4267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доход (тыс.кр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 в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ор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рщ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кле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395280" y="26028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981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следования и тот факт, что «богатство порождает богатство», подчеркивают роль, которую играет неравенство владения собственностью в увеличении неравенства доходов. Как вы думаете, не лучше ли ввести закон, запрещающий передачу по наследству имущества, стоимость которого превышает установленную величину?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Если всех людей наделить одинаковыми доходами, это вызовет неодинаковые чувства радости и удовлетворения». Объясните это утверждение.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864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такого закона было бы поначалу встречено многими людьми с восторгом. Это привело бы к сглаживанию различий в уровнях благосостояния и снижению социальной напряж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льзя забывать, что мотив накопления богатства для детей и внуков – важнейший стимул активизации трудовых усилий людей и сохранения ими части доходов в виде сбере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возведение барьеров на пути наследования имущества ослабит мотивацию людей к труду и сбережению доходов, раз их все равно нельзя будет переда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33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ситуация вызовет чувство радости у тех людей, которые не могут получать высокие дох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он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не обладающие богатством, талантами, образова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любящие тру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й музыкант, кинозвезда, выдающийся шахматист, крупный ученый, уникальный хирург или удачливый предприниматель не испытают чувства радости от введения принципа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189000"/>
            <a:ext cx="78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ямая абсолютного равен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151000" y="907560"/>
            <a:ext cx="0" cy="4730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151000" y="5638680"/>
            <a:ext cx="4157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952640" y="1768680"/>
            <a:ext cx="393480" cy="750600"/>
            <a:chOff x="1952640" y="1768680"/>
            <a:chExt cx="393480" cy="750600"/>
          </a:xfrm>
        </p:grpSpPr>
        <p:sp>
          <p:nvSpPr>
            <p:cNvPr id="78" name="Line 9"/>
            <p:cNvSpPr/>
            <p:nvPr/>
          </p:nvSpPr>
          <p:spPr>
            <a:xfrm flipV="1">
              <a:off x="2150280" y="176868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952640" y="25192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952640" y="1768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"/>
          <p:cNvGrpSpPr/>
          <p:nvPr/>
        </p:nvGrpSpPr>
        <p:grpSpPr>
          <a:xfrm>
            <a:off x="2151000" y="5423040"/>
            <a:ext cx="691920" cy="429840"/>
            <a:chOff x="2151000" y="5423040"/>
            <a:chExt cx="691920" cy="429840"/>
          </a:xfrm>
        </p:grpSpPr>
        <p:sp>
          <p:nvSpPr>
            <p:cNvPr id="82" name="Line 13"/>
            <p:cNvSpPr/>
            <p:nvPr/>
          </p:nvSpPr>
          <p:spPr>
            <a:xfrm>
              <a:off x="2151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2842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2843280" y="5423040"/>
            <a:ext cx="690120" cy="429840"/>
            <a:chOff x="2843280" y="5423040"/>
            <a:chExt cx="690120" cy="429840"/>
          </a:xfrm>
        </p:grpSpPr>
        <p:sp>
          <p:nvSpPr>
            <p:cNvPr id="85" name="Line 16"/>
            <p:cNvSpPr/>
            <p:nvPr/>
          </p:nvSpPr>
          <p:spPr>
            <a:xfrm>
              <a:off x="2843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2843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3533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3537000" y="5423040"/>
            <a:ext cx="691920" cy="429840"/>
            <a:chOff x="3537000" y="5423040"/>
            <a:chExt cx="691920" cy="429840"/>
          </a:xfrm>
        </p:grpSpPr>
        <p:sp>
          <p:nvSpPr>
            <p:cNvPr id="89" name="Line 20"/>
            <p:cNvSpPr/>
            <p:nvPr/>
          </p:nvSpPr>
          <p:spPr>
            <a:xfrm>
              <a:off x="3537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3537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4228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29280" y="5423040"/>
            <a:ext cx="690120" cy="429840"/>
            <a:chOff x="4229280" y="5423040"/>
            <a:chExt cx="690120" cy="429840"/>
          </a:xfrm>
        </p:grpSpPr>
        <p:sp>
          <p:nvSpPr>
            <p:cNvPr id="93" name="Line 24"/>
            <p:cNvSpPr/>
            <p:nvPr/>
          </p:nvSpPr>
          <p:spPr>
            <a:xfrm>
              <a:off x="4229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29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4919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7"/>
          <p:cNvGrpSpPr/>
          <p:nvPr/>
        </p:nvGrpSpPr>
        <p:grpSpPr>
          <a:xfrm>
            <a:off x="4923000" y="5423040"/>
            <a:ext cx="691560" cy="429840"/>
            <a:chOff x="4923000" y="5423040"/>
            <a:chExt cx="691560" cy="429840"/>
          </a:xfrm>
        </p:grpSpPr>
        <p:sp>
          <p:nvSpPr>
            <p:cNvPr id="97" name="Line 28"/>
            <p:cNvSpPr/>
            <p:nvPr/>
          </p:nvSpPr>
          <p:spPr>
            <a:xfrm>
              <a:off x="4923000" y="5639040"/>
              <a:ext cx="691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>
              <a:off x="4923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561456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1"/>
          <p:cNvGrpSpPr/>
          <p:nvPr/>
        </p:nvGrpSpPr>
        <p:grpSpPr>
          <a:xfrm>
            <a:off x="1952640" y="4777920"/>
            <a:ext cx="393480" cy="752040"/>
            <a:chOff x="1952640" y="4777920"/>
            <a:chExt cx="393480" cy="752040"/>
          </a:xfrm>
        </p:grpSpPr>
        <p:sp>
          <p:nvSpPr>
            <p:cNvPr id="101" name="Line 32"/>
            <p:cNvSpPr/>
            <p:nvPr/>
          </p:nvSpPr>
          <p:spPr>
            <a:xfrm flipV="1">
              <a:off x="2150640" y="477792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>
              <a:off x="1952640" y="4780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1952640" y="4024800"/>
            <a:ext cx="393480" cy="752040"/>
            <a:chOff x="1952640" y="4024800"/>
            <a:chExt cx="393480" cy="752040"/>
          </a:xfrm>
        </p:grpSpPr>
        <p:sp>
          <p:nvSpPr>
            <p:cNvPr id="104" name="Line 35"/>
            <p:cNvSpPr/>
            <p:nvPr/>
          </p:nvSpPr>
          <p:spPr>
            <a:xfrm flipV="1">
              <a:off x="2150280" y="402480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>
              <a:off x="1952640" y="4776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952640" y="4024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1952640" y="3273840"/>
            <a:ext cx="393480" cy="750600"/>
            <a:chOff x="1952640" y="3273840"/>
            <a:chExt cx="393480" cy="750600"/>
          </a:xfrm>
        </p:grpSpPr>
        <p:sp>
          <p:nvSpPr>
            <p:cNvPr id="108" name="Line 39"/>
            <p:cNvSpPr/>
            <p:nvPr/>
          </p:nvSpPr>
          <p:spPr>
            <a:xfrm flipV="1">
              <a:off x="2150280" y="327384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>
              <a:off x="1952640" y="40244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952640" y="3273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2"/>
          <p:cNvGrpSpPr/>
          <p:nvPr/>
        </p:nvGrpSpPr>
        <p:grpSpPr>
          <a:xfrm>
            <a:off x="1952640" y="2519640"/>
            <a:ext cx="393480" cy="752040"/>
            <a:chOff x="1952640" y="2519640"/>
            <a:chExt cx="393480" cy="752040"/>
          </a:xfrm>
        </p:grpSpPr>
        <p:sp>
          <p:nvSpPr>
            <p:cNvPr id="112" name="Line 43"/>
            <p:cNvSpPr/>
            <p:nvPr/>
          </p:nvSpPr>
          <p:spPr>
            <a:xfrm flipV="1">
              <a:off x="2150280" y="251964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1952640" y="3271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952640" y="25196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6"/>
          <p:cNvSpPr/>
          <p:nvPr/>
        </p:nvSpPr>
        <p:spPr>
          <a:xfrm>
            <a:off x="2249640" y="1768320"/>
            <a:ext cx="336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5614920" y="1768320"/>
            <a:ext cx="0" cy="365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2151000" y="1767960"/>
            <a:ext cx="3463920" cy="387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 rot="16200000">
            <a:off x="-1466640" y="2950920"/>
            <a:ext cx="45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276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92436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64328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21964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455840" y="4456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1455840" y="37018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1455840" y="29512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1455840" y="2197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1359000" y="1446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6012000" y="5100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2151000" y="10144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249640" y="47782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249640" y="402444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2346480" y="3273480"/>
            <a:ext cx="1882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6"/>
          <p:cNvSpPr/>
          <p:nvPr/>
        </p:nvSpPr>
        <p:spPr>
          <a:xfrm>
            <a:off x="2346480" y="25192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V="1">
            <a:off x="2843280" y="4777920"/>
            <a:ext cx="0" cy="6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 flipV="1">
            <a:off x="3537000" y="41335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4229280" y="327312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V="1">
            <a:off x="4923000" y="26287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1" descr="image15645593"/>
          <p:cNvPicPr/>
          <p:nvPr/>
        </p:nvPicPr>
        <p:blipFill>
          <a:blip r:embed="rId3"/>
          <a:stretch/>
        </p:blipFill>
        <p:spPr>
          <a:xfrm>
            <a:off x="5516640" y="1658880"/>
            <a:ext cx="24912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2" descr="image15645593"/>
          <p:cNvPicPr/>
          <p:nvPr/>
        </p:nvPicPr>
        <p:blipFill>
          <a:blip r:embed="rId4"/>
          <a:stretch/>
        </p:blipFill>
        <p:spPr>
          <a:xfrm>
            <a:off x="2744640" y="4670280"/>
            <a:ext cx="24768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3" descr="image15645593"/>
          <p:cNvPicPr/>
          <p:nvPr/>
        </p:nvPicPr>
        <p:blipFill>
          <a:blip r:embed="rId5"/>
          <a:stretch/>
        </p:blipFill>
        <p:spPr>
          <a:xfrm>
            <a:off x="3436920" y="391788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image15645593"/>
          <p:cNvPicPr/>
          <p:nvPr/>
        </p:nvPicPr>
        <p:blipFill>
          <a:blip r:embed="rId6"/>
          <a:stretch/>
        </p:blipFill>
        <p:spPr>
          <a:xfrm>
            <a:off x="4130640" y="316404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image15645593"/>
          <p:cNvPicPr/>
          <p:nvPr/>
        </p:nvPicPr>
        <p:blipFill>
          <a:blip r:embed="rId7"/>
          <a:stretch/>
        </p:blipFill>
        <p:spPr>
          <a:xfrm>
            <a:off x="4822920" y="2413080"/>
            <a:ext cx="24768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6"/>
          <p:cNvSpPr/>
          <p:nvPr/>
        </p:nvSpPr>
        <p:spPr>
          <a:xfrm>
            <a:off x="6407280" y="1413000"/>
            <a:ext cx="273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, что равные группы семей получают равный доход от общего дохода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% населения – 20% дохода, 40% населения – 40% до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9T07:01:38Z</dcterms:modified>
  <cp:revision>55</cp:revision>
  <dc:subject/>
  <dc:title>Основы компьютерной графики</dc:title>
</cp:coreProperties>
</file>